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A60-1D30-401E-ACEF-7F960DF0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806-A4E0-4BF7-AEE8-4AD7584E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0845-0D60-47D7-9984-AA5387E1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D97-7BBC-4F92-BC5F-6FE973FA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54BB-1508-443B-AC53-F9834E44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8C3F-4EBD-45F0-A9B8-D96B2ED6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6EF1-218D-4E7C-9541-B7313767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F088-6B89-464E-8E8F-5C356058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F5DB-0924-4766-937A-249201E2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5AB5-38F7-4388-917F-8E531EF4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A871-7664-4D73-A41E-EA8C6078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92B8-9AE8-4353-9CED-A65DB2F3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5F94-5686-4EBF-90F5-D43F9F73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5027-0033-4B38-9146-C94EAA88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E8F6-0EC5-488C-A7B7-23BF75F0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7FB1-A211-40AB-BF70-94ECFFCD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7DD7-3415-4101-9730-B399E304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5C7D-4EBF-4EB3-9B29-88E938BC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95B-ACB9-401A-9A90-163F8379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0A7E-61BD-49C1-8A69-F3F422C9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D575-AE2A-44DA-B340-2396636D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4E03-3B23-475B-96F1-27B1A734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083E-4053-4D00-A646-D41F3DA7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CE5-3E5D-42CC-B298-1A84BE7A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49CF-73FE-4C29-ABBC-FB413F8795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0C53-14BC-4B47-B6C9-7AC4A5E113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орагијске грозниц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Audio 1" descr=""/>
          <p:cNvPicPr/>
          <p:nvPr/>
        </p:nvPicPr>
        <p:blipFill>
          <a:blip r:embed="rId1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орагијска грозница са бубрежним синдромом (ХГСБ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чници су: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antaan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ou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brav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(Београд) и </a:t>
            </a:r>
            <a:r>
              <a:rPr b="0" i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uma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ирус – породица </a:t>
            </a:r>
            <a:r>
              <a:rPr b="0" i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nyavir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угоисточна Азија (Кина), источна Европа, Скандинав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родни резервоари инфекције су глодари (мишеви, пацов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пираторни пут је најчешћи начин трансмисије вируса на ч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иментарни и директан пут заражавања су ређ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убација се креће од 7-36 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Audio 6" descr=""/>
          <p:cNvPicPr/>
          <p:nvPr/>
        </p:nvPicPr>
        <p:blipFill>
          <a:blip r:embed="rId7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тогенеза ХГСБ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 доспева у крвоток где се моше детектовати у току фебрилне фаз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а репликација вируса се дешава у епителним ћелијама слузница а потом у ендотелу крвних суд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ома брзо након почетка болести могу се наћи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M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нтитела у високом тит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ази до ослобађања цитокина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, Т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лфа интерферон г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скуларна дисфункција (смањење периферене васкуларне резистенције и повећање пропустљив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оволемијски шок, ДИК, некроза тубу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Audio 3" descr=""/>
          <p:cNvPicPr/>
          <p:nvPr/>
        </p:nvPicPr>
        <p:blipFill>
          <a:blip r:embed="rId7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 сли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брилна ф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отензивна ф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игуријска ф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уријска ф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валесцентна ф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Audio 6" descr=""/>
          <p:cNvPicPr/>
          <p:nvPr/>
        </p:nvPicPr>
        <p:blipFill>
          <a:blip r:embed="rId6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иничка слика ХГСБ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а фаза (фебрилна фаза) карактерише се наглим почетком високе темперетуре праћене дрхтавицом, фотофобијом, смањењем оштрине вида и јаким боловима у крстима, симптомима трахеобронхитис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м прегледом се налази хиперемија лица која се шири на предео врата, горњег дела грудног коша и бути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њекција коњунктива, петехије на непцу и аксиларној регији, као периорбитални едем су од велике помоћи за рано постављање дијагнозе у ендемским подручјим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ативна брадикардиј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Audio 1" descr=""/>
          <p:cNvPicPr/>
          <p:nvPr/>
        </p:nvPicPr>
        <p:blipFill>
          <a:blip r:embed="rId5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Клиничка слика ХГСБ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Хипотензивна фаза траје од неколико до 48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 и карактерише се падом крвног притиска и понекад развојем шок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Релативна брадикардија се смењује са тахикардијо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Хематокрит расте, настаје леукоцитоза и тромбоцитопениј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игуријска фаза траје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3-10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на, долази до поремећаја протока крви бубрега због локалних и системских поремећаја у циркулацији – тубуларна некроза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Бубрежна дисфункција, што се манифестује хематуријом, протеинуријом,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лигуријом и азотемијо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Audio 3" descr=""/>
          <p:cNvPicPr/>
          <p:nvPr/>
        </p:nvPicPr>
        <p:blipFill>
          <a:blip r:embed="rId6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иничка слика ХГСБ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урична фаза представља почетак клиничког оздрављења и брзог побољшања бубрежне финкције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ктерише се полиуријом, јаком жеђи и нормализацијом притиска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нвалесцентна фаза - траје 4-12 недељ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оравак је већином потпун, сем код оних где су оштећења бубрега била знатн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Audio 2" descr=""/>
          <p:cNvPicPr/>
          <p:nvPr/>
        </p:nvPicPr>
        <p:blipFill>
          <a:blip r:embed="rId5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рапија ХГСБ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вирусна терапија – РИБАВИРИН (доводи до прекидања виремије, скраћења трајања болести, смањења степена хеморагија и бубрежних оштећења)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оративна терапија (кристалоидни раствори, хумани серумски албумини и вазопресорни лекови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ћење крвног притиска, диурезе, броја тромбоцита, као и вредности уреје, креатинина и електролит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птна дијализ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Audio 5" descr=""/>
          <p:cNvPicPr/>
          <p:nvPr/>
        </p:nvPicPr>
        <p:blipFill>
          <a:blip r:embed="rId5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АНТАВИРУСНИ ПУЛМОНАЛНИ СИНДРО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ромални стадијум траје 3-4 дана</a:t>
            </a:r>
            <a:r>
              <a:rPr b="0" lang="sr-R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диопулмонална фаза</a:t>
            </a:r>
            <a:r>
              <a:rPr b="0" lang="sr-R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R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хикардија, тахипноја, хипоксемија и радиолошки знаци плућног едема  и респираторна инсуфицијенција</a:t>
            </a:r>
            <a:r>
              <a:rPr b="0" lang="sr-R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 током првих неколико сати- оксигенотерапија, интубација и вештачка вентилација</a:t>
            </a:r>
            <a:r>
              <a:rPr b="0" lang="sr-R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отензија и шок- инфузиона терапија и пресорни лекови</a:t>
            </a:r>
            <a:r>
              <a:rPr b="0" lang="sr-R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Audio 3" descr=""/>
          <p:cNvPicPr/>
          <p:nvPr/>
        </p:nvPicPr>
        <p:blipFill>
          <a:blip r:embed="rId5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878440" cy="4896000"/>
          </a:xfrm>
          <a:prstGeom prst="rect">
            <a:avLst/>
          </a:prstGeom>
          <a:ln w="0">
            <a:noFill/>
          </a:ln>
        </p:spPr>
      </p:pic>
      <p:pic>
        <p:nvPicPr>
          <p:cNvPr id="213" name="Audio 2" descr=""/>
          <p:cNvPicPr/>
          <p:nvPr/>
        </p:nvPicPr>
        <p:blipFill>
          <a:blip r:embed="rId2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7128000" cy="4608720"/>
          </a:xfrm>
          <a:prstGeom prst="rect">
            <a:avLst/>
          </a:prstGeom>
          <a:ln w="0">
            <a:noFill/>
          </a:ln>
        </p:spPr>
      </p:pic>
      <p:pic>
        <p:nvPicPr>
          <p:cNvPr id="215" name="Audio 1" descr=""/>
          <p:cNvPicPr/>
          <p:nvPr/>
        </p:nvPicPr>
        <p:blipFill>
          <a:blip r:embed="rId2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 хеморагијке грознице (ВХГ) представљају групу разноврсних болести које карактерише фебрилност и појава хеморагијског синдрома који је одраз генерализованог  оштећења крвних суд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vivirusi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та грозница, Денг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irovirus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го-кримска грозниц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tan virus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рагијска грозница са бубрежним синдромо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navirus (Lassa-groznic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ovirusi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ола и Марбуршка грозниц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Audio 6" descr=""/>
          <p:cNvPicPr/>
          <p:nvPr/>
        </p:nvPicPr>
        <p:blipFill>
          <a:blip r:embed="rId7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њунктивалне суфузиј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754eme75431a"/>
          <p:cNvPicPr/>
          <p:nvPr/>
        </p:nvPicPr>
        <p:blipFill>
          <a:blip r:embed="rId1"/>
          <a:stretch/>
        </p:blipFill>
        <p:spPr>
          <a:xfrm>
            <a:off x="1835280" y="1773360"/>
            <a:ext cx="5761080" cy="4319640"/>
          </a:xfrm>
          <a:prstGeom prst="rect">
            <a:avLst/>
          </a:prstGeom>
          <a:ln w="0">
            <a:noFill/>
          </a:ln>
        </p:spPr>
      </p:pic>
      <p:pic>
        <p:nvPicPr>
          <p:cNvPr id="218" name="Audio 1" descr=""/>
          <p:cNvPicPr/>
          <p:nvPr/>
        </p:nvPicPr>
        <p:blipFill>
          <a:blip r:embed="rId2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перемија лица и вратног д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3" descr="75375330-14"/>
          <p:cNvPicPr/>
          <p:nvPr/>
        </p:nvPicPr>
        <p:blipFill>
          <a:blip r:embed="rId1"/>
          <a:stretch/>
        </p:blipFill>
        <p:spPr>
          <a:xfrm>
            <a:off x="380880" y="1219320"/>
            <a:ext cx="8458200" cy="5410080"/>
          </a:xfrm>
          <a:prstGeom prst="rect">
            <a:avLst/>
          </a:prstGeom>
          <a:ln w="0">
            <a:noFill/>
          </a:ln>
        </p:spPr>
      </p:pic>
      <p:pic>
        <p:nvPicPr>
          <p:cNvPr id="221" name="Audio 6" descr=""/>
          <p:cNvPicPr/>
          <p:nvPr/>
        </p:nvPicPr>
        <p:blipFill>
          <a:blip r:embed="rId2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РУСНЕ ХЕМОРАГИЈСКЕ ГРОЗНИ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ликују се разноврсношћу клиничких манифестација, спорадичним и сезонским јављањ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шка клиничка слика са високим леталитетом сврстава их у нарочито опасне инфекције а могућност интерхуманог преношења појединих ВХГ из аутохтоних жаришта на друге територије налаже спровођење посебних превентивних ме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Audio 10" descr=""/>
          <p:cNvPicPr/>
          <p:nvPr/>
        </p:nvPicPr>
        <p:blipFill>
          <a:blip r:embed="rId3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09840"/>
            <a:ext cx="8229600" cy="46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чник је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irovir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ји припада породици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nyavirid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фрика, Средњи исток, западна Кина, Балка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пељи имају значајну улогу у одржавању и преношењу вирус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ља се сезонски (пролеће–јесен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ћа је и интерхумана трансмисија вируса-   контакт са инфицираном крвљу, секретима и екскретима оболели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убација 2-12 дана (3-6 дан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имска-Конго хеморагијск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озница (ККХ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Audio 5" descr=""/>
          <p:cNvPicPr/>
          <p:nvPr/>
        </p:nvPicPr>
        <p:blipFill>
          <a:blip r:embed="rId7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имска-Конго хеморагијск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озница (ККХ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н продора вируса у организам настаје виремија и хематогена дисеминациј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а вируса се одвија у ендотелу капилара, што доводи до фокалне некрозе, сепарације чврстих спојева и њиховог одвајања од базалне мембра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ази до стварања имуних комплекса који доводе до оштећења капилара и повећане пропустљивост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на пропустљивост доводи до екстравазације воде, електролита и плазм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о крајњи исход ових патофизиолошких механизама настаје дисеминована интраваскуларна коагулопатија, хеморагије и шо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Audio 3" descr=""/>
          <p:cNvPicPr/>
          <p:nvPr/>
        </p:nvPicPr>
        <p:blipFill>
          <a:blip r:embed="rId6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3840" y="2599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иничка слика ККХ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хеморагични стадијум - симптоми и знаци токсично-инфективног синдрома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 почиње нагло високом темперетуром, интензивном главобољом, боловима у мишићима слабинске регије, боловима у зглобовима, боловима у абдомену, муком и повраћањем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гледом се уочава хиперемија ждрела, коњунктива, енантем букалне слузнице као и хиперемија лица, врата и горњег дела грудног коша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Audio 2" descr=""/>
          <p:cNvPicPr/>
          <p:nvPr/>
        </p:nvPicPr>
        <p:blipFill>
          <a:blip r:embed="rId4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иничка слика ККХ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рагични синдром- настаје између 3 и 5-ог да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љају се петехије и хематоми, е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мозе или хеморагични раш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даљем току настају крварења на слузницама усне дупље (петехије на ждрелу и букалној слузници, крварење из десни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 унутрашњег крварења (мелена, хемоптизије, хемоптое, метрорагија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спленомегалија, леукопенија и тромбоцитопенија, некроза хепатоцита, хиповолемијски ш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нвалесцентни пери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Audio 2" descr=""/>
          <p:cNvPicPr/>
          <p:nvPr/>
        </p:nvPicPr>
        <p:blipFill>
          <a:blip r:embed="rId7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јагноза ККХГ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лација вируса на култури ткив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ивање специфичних антитела у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M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ла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7- 10 дана) 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ли тест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твороструки пораст титра антител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G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ласе у парном серум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тешко оболелих због масивне виремије и супресије функциј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лимфоцита некада се антитела не могу детектоват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Audio 4" descr=""/>
          <p:cNvPicPr/>
          <p:nvPr/>
        </p:nvPicPr>
        <p:blipFill>
          <a:blip r:embed="rId5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рапија ККХ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екција течности и електроли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фузије пуне крви, свеже плазме и тромбоци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развоја шока дати кортикостерои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вирусна терапија –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бавирин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.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 подлеже обавезној пријави у случају сумње, оболевања или смртног исх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Audio 2" descr=""/>
          <p:cNvPicPr/>
          <p:nvPr/>
        </p:nvPicPr>
        <p:blipFill>
          <a:blip r:embed="rId6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3:22:17Z</dcterms:created>
  <dc:creator>Info</dc:creator>
  <dc:description/>
  <dc:language>en-US</dc:language>
  <cp:lastModifiedBy>Biljana</cp:lastModifiedBy>
  <dcterms:modified xsi:type="dcterms:W3CDTF">2020-09-19T15:51:21Z</dcterms:modified>
  <cp:revision>47</cp:revision>
  <dc:subject/>
  <dc:title>Streptokokne infekcije</dc:title>
</cp:coreProperties>
</file>